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2330-9492-43A2-9E42-5BD229B7FD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72E4-EF02-4135-8CB5-94FC899C23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56CD-E5FD-420F-A794-EAF6D4D7B5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5D63-6AE0-4303-8EC3-0F7507461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1848-6A95-4689-A70C-34FCF0F6B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3329-A1D6-401E-83AF-15F0069250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3B8F-DF1E-4F4C-8DE2-D4AD76AA2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5062-326D-4114-B3C4-E7FF60F5EE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F78A-5FD6-4E1F-80CB-694AE3DEE0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FE00-83CD-4C1D-9B4C-47E7E07BDF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AE2F-7A23-4462-84B5-DF9DE8E9A2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7630-289A-4069-9719-3C18EC3E8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32200" y="6399360"/>
            <a:ext cx="147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Ainsley Nies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utura B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9D95-E063-4A71-8EBE-5DE7C671484C}" type="slidenum">
              <a:rPr b="0" lang="en-US" sz="14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66720" y="2048040"/>
            <a:ext cx="7924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1:46:49Z</dcterms:created>
  <dc:creator>Ainsley Nies</dc:creator>
  <dc:description>For UCB class
© 2006 Ainsley Nies </dc:description>
  <dc:language>en-US</dc:language>
  <cp:lastModifiedBy>ainsley</cp:lastModifiedBy>
  <cp:lastPrinted>2003-04-17T16:43:04Z</cp:lastPrinted>
  <dcterms:modified xsi:type="dcterms:W3CDTF">2007-10-16T12:28:08Z</dcterms:modified>
  <cp:revision>894</cp:revision>
  <dc:subject>Retrospectives</dc:subject>
  <dc:title>Retrospectives: Learning to Profit from Your Exps</dc:title>
</cp:coreProperties>
</file>